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505-880F-4F1F-BCF9-834EF9E9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8A8-95DD-4338-9055-492D0024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7C1-482D-4384-A50D-5E559460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B1A-3689-43E1-A033-E6F86900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779-AEED-46EF-8039-4993CB8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24F-0439-4D2F-90F5-CD7FB1F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75B-44C3-405C-89DE-23672BF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9CD-13E8-4BA0-A226-9887962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F52-F21C-4705-967A-644FF9F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EE8-B486-4638-9D4C-C9ACDC1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A93-E829-4904-AAAD-BFEAE2E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693-9E79-49DB-9235-165DC66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A3FBE-A207-4775-8309-C771000A5D6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CBF9C-4CC4-4190-AB0D-BDFF0C5C54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bert Blakel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hing from nothing at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mic Evolution isn’t always pret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me of My heo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1511280" cy="120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3429000" y="1752480"/>
            <a:ext cx="1308240" cy="16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6"/>
          <a:stretch/>
        </p:blipFill>
        <p:spPr>
          <a:xfrm>
            <a:off x="3505320" y="3720960"/>
            <a:ext cx="1231920" cy="16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7"/>
          <a:stretch/>
        </p:blipFill>
        <p:spPr>
          <a:xfrm>
            <a:off x="6019920" y="1752480"/>
            <a:ext cx="1739880" cy="166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8"/>
          <a:stretch/>
        </p:blipFill>
        <p:spPr>
          <a:xfrm>
            <a:off x="5867280" y="3886200"/>
            <a:ext cx="1689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y Go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600200" y="4724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ke good better - for one for al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shou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the jour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more together than ap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power myself by empowering ot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some jokes, help others sm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spite of what VW s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nk bi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 b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cept no substitu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23880" y="441972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715000" y="41464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all you d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come the big do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 your bite out of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cute and get lots of ru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91320" y="242712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572000" y="3048120"/>
            <a:ext cx="304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bove all el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yourself – who else should you 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 yourself – if you don’t who w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t dessert first – life is sh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t sometimes it is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x0010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219320" y="2168640"/>
            <a:ext cx="6540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the begi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g Bang occurs – 13.7 billion years ag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ter and energy uncouples (13.5 by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ter undergoes nucleosynthesis (13 by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rth condenses, matter evolves life (&lt; 6 by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bert is born (&lt; 60 years ago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better all the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discovers science – second gra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becomes a ne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blows up tennis court with rocket fu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redirects interests to physic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ity explores &amp; Bob delights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1143000" y="5562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 on the moon – We as a race are on the way outwar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ction ignites imagi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990720" y="2368440"/>
            <a:ext cx="213336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6324480" y="2209680"/>
            <a:ext cx="1828800" cy="168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3962520" y="2216160"/>
            <a:ext cx="126972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523880" y="4800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eams motivate innovation and the endless push forwar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ek out the b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457200" y="141768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5181480" y="148608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90720" y="46483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eaming is easier when your in with other dream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ys get bigger and more fun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556272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68580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inceton plasma fu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715000" y="396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rmilab particle dete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Bob really wants to d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25146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5791320" y="17524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1752480" y="3809880"/>
            <a:ext cx="2362320" cy="179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>
            <a:off x="5479920" y="3951360"/>
            <a:ext cx="2140200" cy="1509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2895480" y="57913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y free – fly fas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51:46Z</dcterms:created>
  <dc:creator>College of Education</dc:creator>
  <dc:description/>
  <dc:language>en-US</dc:language>
  <cp:lastModifiedBy>College of Education</cp:lastModifiedBy>
  <dcterms:modified xsi:type="dcterms:W3CDTF">2009-07-25T18:39:18Z</dcterms:modified>
  <cp:revision>12</cp:revision>
  <dc:subject/>
  <dc:title>Robert Blakely</dc:title>
</cp:coreProperties>
</file>